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989-8390-498C-99F4-FD7BF0FB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FE8-DB68-43E4-A43D-CD559E30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43F-5CF7-458D-BDE0-A0EEFED2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D4C-E3B6-4819-BB41-2F022B8E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7F5-4A43-4E16-8AEB-1129EB3E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601-E48E-4DA5-BB8C-2BED006E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CBC-23DC-42C2-ADF2-7BEC332A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245-F1C5-48B8-A54E-8C249C6F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08C-7425-404A-8CD7-9D5A3173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DF4-C0B1-4939-858B-1ED30752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CDA-8690-49C5-991C-F2B375EC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6F1-CA13-4A39-94D3-AD504983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C33E-2825-4034-8985-6864974F2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781680" cy="5762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and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57600" y="457200"/>
            <a:ext cx="472428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udi Arab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imag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pedi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s of the world of Saudi Arabia (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BCnew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828800" y="228600"/>
            <a:ext cx="5410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Location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is southwest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Landforms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ast dry desert they have trouble wit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Water system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They do not have a water system they have trouble keeping water and is very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28800" y="2286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e 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nd continu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il an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have Ironore, petroleum, Gold And c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0 Saudi Arabia was responsible for 42.1% of the worlds crude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animals in the dese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 animals are the Dung beatle, the Camal the Egyptian Vultrue and more but to long to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lim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very hot and humid during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ights the temperature drop very cold to 0 degress cels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ters are very harsh and cold even worse then 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76520" y="380880"/>
            <a:ext cx="609588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limate and vegi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 king named Abdullah rules the country and is like a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 Qur’an is what they role there country by (like there la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Government tries to spread Islam as one of ther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King doesn’t have supreme rule cause they have other people with power like prime min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y only have one name on the ballet when vo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457200"/>
            <a:ext cx="4647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overnment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hi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1900’s and 1940’s boundries were made between Jordan Iran and Ku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Abdul Aziz died in 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ugust of 1990 Saddam Husseins forces invaided Ku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ev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ound alot of oil and now they are the richest in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10080" y="388620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Econom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industrial country and mostly petroleum and oil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jor export is oil and makes up 90% of there export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urrency is riy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7 out of 100 male youth children between 15 and 24 are edu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ntries national dance is called the Al Ardha “it’s a folk ritu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ulture is mostly Isl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ca and Medina “the holy pla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ray five times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ress strictly to the Hij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forbidden to eat pork and drink alcoh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52480" y="304920"/>
            <a:ext cx="5715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ltu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laces to vis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historical site is Mecca and Me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ca,Riayadh,Habalah,Madain saleh cemitary are places visit in Saudi Arabi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53:27Z</dcterms:created>
  <dc:creator>jasoncthoman</dc:creator>
  <dc:description/>
  <dc:language>en-US</dc:language>
  <cp:lastModifiedBy>jasoncthoman</cp:lastModifiedBy>
  <dcterms:modified xsi:type="dcterms:W3CDTF">2009-02-24T14:39:55Z</dcterms:modified>
  <cp:revision>7</cp:revision>
  <dc:subject/>
  <dc:title>Slide 1</dc:title>
</cp:coreProperties>
</file>